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804E-62CC-4932-AC53-522788873C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1A5D-0FAE-41AD-82D8-775E177A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D78F-E3F6-49F7-A979-2F4023E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F5B4-3930-4589-A674-5924CD8405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120A-F34A-4900-9836-0049BC9A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0150-179E-4B8A-AFF5-CB798EAC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1489-94F2-4ED5-8D61-E0835ACA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E867-5D66-4644-BC71-F54C70AE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78E9-87AA-45DA-9D89-43324CEC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2CE1-7C1E-4C74-9DA9-69E91661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250E-580D-4706-B7B5-685D35B1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37FE-5E96-40E9-81AD-C1B41121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0205-6DF9-40F3-9F3B-7ED5631C0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an engine work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check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join the phrases to show the correct sequence of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06Z</dcterms:modified>
  <cp:revision>26</cp:revision>
  <dc:subject/>
  <dc:title>  </dc:title>
</cp:coreProperties>
</file>